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04E8-5B65-4925-9435-00FA42C901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B303-EBA2-4AF0-99DC-A2EACBA8A7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79E-C18B-44CF-843C-188125E7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986-2E35-4B08-8AB4-3ACCEA09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039-7E4A-4877-A064-EF29DD9C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E37-96A5-435C-9EEC-C282666B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D1D-6830-46A1-99EF-0216D8C8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CC0-FDE1-49A2-ACD6-384634A4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4B6-11A1-4358-994F-E1982317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20E-31EF-4341-A0C8-A4A16B5B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64B-79A6-496C-BDEB-AB25EE1D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0DF-36E0-4672-8E86-793996E3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1CF-F28A-400A-90FC-5C7C8B9C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CD6-FAF2-4A3D-BC4D-DF798E4F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D43D-4E3A-4841-AE89-97F80A9022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797040" y="609480"/>
            <a:ext cx="780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472c4"/>
                </a:solidFill>
                <a:uFillTx/>
                <a:latin typeface="Times New Roman"/>
                <a:ea typeface="Times New Roman"/>
              </a:rPr>
              <a:t>Вычислите площадь поверхности каждого прямоугольного параллелепипе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Куб 4"/>
          <p:cNvSpPr/>
          <p:nvPr/>
        </p:nvSpPr>
        <p:spPr>
          <a:xfrm>
            <a:off x="1674720" y="1955880"/>
            <a:ext cx="1846440" cy="280656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Куб 5"/>
          <p:cNvSpPr/>
          <p:nvPr/>
        </p:nvSpPr>
        <p:spPr>
          <a:xfrm>
            <a:off x="5394240" y="3222720"/>
            <a:ext cx="1495440" cy="1539720"/>
          </a:xfrm>
          <a:prstGeom prst="cube">
            <a:avLst>
              <a:gd name="adj" fmla="val 25000"/>
            </a:avLst>
          </a:prstGeom>
          <a:solidFill>
            <a:srgbClr val="ed7d3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1747800" y="470844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5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394240" y="47624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d7d31"/>
                </a:solidFill>
                <a:latin typeface="Times New Roman"/>
                <a:ea typeface="Times New Roman"/>
              </a:rPr>
              <a:t>2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4387320" y="386892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d7d31"/>
                </a:solidFill>
                <a:latin typeface="Times New Roman"/>
                <a:ea typeface="Times New Roman"/>
              </a:rPr>
              <a:t>2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695520" y="3068280"/>
            <a:ext cx="12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8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3112920" y="44146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3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797040" y="609480"/>
            <a:ext cx="780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472c4"/>
                </a:solidFill>
                <a:uFillTx/>
                <a:latin typeface="Times New Roman"/>
                <a:ea typeface="Times New Roman"/>
              </a:rPr>
              <a:t>Вычислите площадь поверхности каждого прямоугольного параллелепипе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Куб 4"/>
          <p:cNvSpPr/>
          <p:nvPr/>
        </p:nvSpPr>
        <p:spPr>
          <a:xfrm>
            <a:off x="1174680" y="2343240"/>
            <a:ext cx="3965760" cy="2435040"/>
          </a:xfrm>
          <a:prstGeom prst="cube">
            <a:avLst>
              <a:gd name="adj" fmla="val 39689"/>
            </a:avLst>
          </a:prstGeom>
          <a:solidFill>
            <a:srgbClr val="5b9b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Куб 5"/>
          <p:cNvSpPr/>
          <p:nvPr/>
        </p:nvSpPr>
        <p:spPr>
          <a:xfrm>
            <a:off x="6326280" y="2851200"/>
            <a:ext cx="1912680" cy="19130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538520" y="408456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5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6516720" y="47624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 rot="16200000">
            <a:off x="278640" y="35960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3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1838160" y="476244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11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0"/>
          <p:cNvSpPr/>
          <p:nvPr/>
        </p:nvSpPr>
        <p:spPr>
          <a:xfrm rot="16200000">
            <a:off x="5312880" y="35960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797040" y="609480"/>
            <a:ext cx="780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472c4"/>
                </a:solidFill>
                <a:uFillTx/>
                <a:latin typeface="Times New Roman"/>
                <a:ea typeface="Times New Roman"/>
              </a:rPr>
              <a:t>Вычислите и расположите трёхзначные ответы в порядке возраст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TextBox 4" descr=""/>
          <p:cNvPicPr/>
          <p:nvPr/>
        </p:nvPicPr>
        <p:blipFill>
          <a:blip r:embed="rId1"/>
          <a:stretch/>
        </p:blipFill>
        <p:spPr>
          <a:xfrm>
            <a:off x="1085760" y="2011320"/>
            <a:ext cx="72723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8:18:02Z</dcterms:created>
  <dc:creator>Anatol</dc:creator>
  <dc:description/>
  <dc:language>en-US</dc:language>
  <cp:lastModifiedBy>Пользователь Windows</cp:lastModifiedBy>
  <dcterms:modified xsi:type="dcterms:W3CDTF">2021-02-28T18:20:48Z</dcterms:modified>
  <cp:revision>7</cp:revision>
  <dc:subject/>
  <dc:title>Презентация PowerPoint</dc:title>
</cp:coreProperties>
</file>